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2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1DC8-96B3-40C2-9493-424BA599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0575-8C5D-43A2-AADE-51A28464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0D1E-DA3E-4D9C-A89D-02C55750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01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77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01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77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663E-485D-4490-8417-5847FB3B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84B-E370-40D5-9A79-EBB8AED6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B64-06AA-41F7-AD4F-8F0549A6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A1F6-07D9-43D7-A6C3-2E337689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3A11-1F0B-4BE7-97B6-1212C9A0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34A0-35AA-4B3B-BECF-310E00C6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E88-C1CE-402F-B500-343C1F99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199C-77A6-4494-BD8D-0483960E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4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3E9-001E-476A-8579-D119CF3D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444A-EC20-4244-BC99-73EA741E9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UX2000" descr=""/>
          <p:cNvPicPr/>
          <p:nvPr/>
        </p:nvPicPr>
        <p:blipFill>
          <a:blip r:embed="rId2"/>
          <a:stretch/>
        </p:blipFill>
        <p:spPr>
          <a:xfrm>
            <a:off x="7391520" y="152280"/>
            <a:ext cx="1295280" cy="1262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62120" y="1600200"/>
            <a:ext cx="784836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849240"/>
            <a:ext cx="685800" cy="324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LUX2000" descr=""/>
          <p:cNvPicPr/>
          <p:nvPr/>
        </p:nvPicPr>
        <p:blipFill>
          <a:blip r:embed="rId1"/>
          <a:stretch/>
        </p:blipFill>
        <p:spPr>
          <a:xfrm>
            <a:off x="2666880" y="2133720"/>
            <a:ext cx="3810240" cy="3711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6858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ffff"/>
                </a:solidFill>
                <a:latin typeface="Arial"/>
              </a:rPr>
              <a:t>August 3rd - August 13th,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stimated result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19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4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Airship World Championship, 19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50.000 visito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7 TV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World Championship, 199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- 25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26 medi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316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Hot Air Balloon European Championship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.000 vis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00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118728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based on previous experi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Fiesta flying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ry fee: 500 Euro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cludes all propane from August 4th to August 13th, 2000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 x1:50.000 ma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4 tickets for attending the Welcome Reception so as the Awards 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conditions for Special sha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re-registration: Please send the attached pre-registration document 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e Aérostatique du Grand-Duché de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BP 2, 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number of Fiesta balloons is limited to 4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s soon as your pre-registration is accepted, we will send you the final registration for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Welcome to the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Luxembourg Balloon Jambore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81080" y="1670040"/>
            <a:ext cx="556272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OFFICIAL PILOT ENTRY 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amily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First Nam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tionality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Address for correspond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el/Fax number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Email Address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Pilot in Charge, Hot Air Balloons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 of Pilots Licence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Pilots Licence Number: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ity: 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ssued b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Pre-registr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BALLOON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Registration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Mak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ype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Size:  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Year of Manufacture: _______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Hours flown: 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Registration number: 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ertificate of Airworthiness number: 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Company: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Third party limit: ___________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Valid to: 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(advertising, colours, etc): 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0000"/>
                </a:solidFill>
                <a:latin typeface="Arial"/>
              </a:rPr>
              <a:t>PILOT CV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Brief description of experience and achievements in ballooning (Please add a colour pi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of yourself and your ballo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2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organizer’s refere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2, Hot Air Balloon European Championship in Ettelbru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88, Hot Air Airship World Championship in Walferdange, Mers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1, Hot Air Airship European Championship in Mondor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1993, Hot Air Balloon World Championship in Meys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Organizer: Commune Aérostatique du Grand-Duché de Luxembourg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O Box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-6101 Junglin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Grand-Duchy of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hone: (+352) 78 90 75-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x: (+352) 78 90 75-46 and 78 99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mail: contact@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: www.balloon.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event in the year 200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5791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August 3rd - August 13th,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 Meysembourg, Larochette / Mersch, Luxembou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more than 120 ballo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81 of the best european pilots compe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pecial shapes an a Fiesta progra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flights per day, mornings and ev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sight-seeing programm for pilots and cre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wo weekends of total entertain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lights and night g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parachutists, deltaplanes, kites etc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enter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bars, restaur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vill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concerts, fireworks, sh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buClr>
                <a:srgbClr val="000000"/>
              </a:buClr>
              <a:buFont typeface="Arial"/>
              <a:buChar char="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400" spc="-1" strike="noStrike">
                <a:solidFill>
                  <a:srgbClr val="000000"/>
                </a:solidFill>
                <a:latin typeface="Arial"/>
              </a:rPr>
              <a:t>the balloon pa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BALLON5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2361960" cy="3600720"/>
          </a:xfrm>
          <a:prstGeom prst="rect">
            <a:avLst/>
          </a:prstGeom>
          <a:ln w="0">
            <a:noFill/>
          </a:ln>
          <a:effectLst>
            <a:outerShdw dist="28496" dir="9225519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Meysembourg vill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686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sit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55" name="Site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86800" cy="54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The communica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RTL Radio and T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ocal Newspaper and Magazine partner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Luxemburger Wort, Telecran and Rev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international TV coverage by Euro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FAI TV distribution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200 international journal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binsfeld-communicatio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communication consul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The partner Exceed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LU" sz="1600" spc="-1" strike="noStrike">
                <a:solidFill>
                  <a:srgbClr val="000000"/>
                </a:solidFill>
                <a:latin typeface="Arial"/>
              </a:rPr>
              <a:t>Internet Presence 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BALLON3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3733920" cy="2516040"/>
          </a:xfrm>
          <a:prstGeom prst="rect">
            <a:avLst/>
          </a:prstGeom>
          <a:ln w="0">
            <a:noFill/>
          </a:ln>
          <a:effectLst>
            <a:outerShdw dist="52300" dir="836435" blurRad="0" rotWithShape="0">
              <a:srgbClr val="00cc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Air sports on the air</a:t>
            </a:r>
            <a:br>
              <a:rPr sz="3200"/>
            </a:b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2000’s TV produc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hang-gliding championship for women, June 00, Boeotia,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World aerobatics championship, August 00, Muret-Toulouse, F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t air balloon European championship, August 00, Luxem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he world of aeromodelling, highlights on various champ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25th World parachuting championship in style and accuracy, October 00, 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uropean paragliding championship, July 00, Garmis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019920" y="552600"/>
            <a:ext cx="1218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33cc"/>
                </a:solidFill>
                <a:latin typeface="Arial"/>
              </a:rPr>
              <a:t>FAI 1999’s TV distribut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cc99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ctual programms sales (Nov 1999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Europ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sia &amp; Middle East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North America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Inflight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1447920" cy="765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143000" y="4724280"/>
            <a:ext cx="990720" cy="75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2743200" y="4572000"/>
            <a:ext cx="167652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2666880" y="2743200"/>
            <a:ext cx="1800360" cy="6764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2590920" y="3657600"/>
            <a:ext cx="1904760" cy="692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705040" y="2424240"/>
            <a:ext cx="2317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7086600" y="2590920"/>
            <a:ext cx="1611360" cy="3897360"/>
            <a:chOff x="7086600" y="2590920"/>
            <a:chExt cx="1611360" cy="3897360"/>
          </a:xfrm>
        </p:grpSpPr>
        <p:pic>
          <p:nvPicPr>
            <p:cNvPr id="72" name="" descr=""/>
            <p:cNvPicPr/>
            <p:nvPr/>
          </p:nvPicPr>
          <p:blipFill>
            <a:blip r:embed="rId7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8"/>
            <a:stretch/>
          </p:blipFill>
          <p:spPr>
            <a:xfrm>
              <a:off x="7086600" y="2590920"/>
              <a:ext cx="1611360" cy="389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5410080" y="2819520"/>
            <a:ext cx="1371600" cy="657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5486400" y="3809880"/>
            <a:ext cx="1295280" cy="80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41960" y="2424240"/>
            <a:ext cx="180828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LU" sz="3200" spc="-1" strike="noStrike">
                <a:solidFill>
                  <a:srgbClr val="3333cc"/>
                </a:solidFill>
                <a:latin typeface="Arial"/>
              </a:rPr>
              <a:t>The Internet balloon.lu homepag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143000" y="1905120"/>
          <a:ext cx="683892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68389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362240" y="1501920"/>
          <a:ext cx="60973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2240" y="1501920"/>
                    <a:ext cx="60973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838080" y="1828800"/>
            <a:ext cx="5943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2T11:33:26Z</dcterms:created>
  <dc:creator>Binsfeld Conseil</dc:creator>
  <dc:description/>
  <dc:language>en-US</dc:language>
  <cp:lastModifiedBy>sauber</cp:lastModifiedBy>
  <cp:lastPrinted>1999-12-27T17:36:52Z</cp:lastPrinted>
  <dcterms:modified xsi:type="dcterms:W3CDTF">1999-12-30T12:20:10Z</dcterms:modified>
  <cp:revision>58</cp:revision>
  <dc:subject/>
  <dc:title>LUXEMBOURG 2000</dc:title>
</cp:coreProperties>
</file>