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83400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3200" cy="100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7360" y="-3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1040" y="750960"/>
            <a:ext cx="5000760" cy="374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007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7360" y="95007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FEB48A2-ED39-4657-9052-72165F31E08E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54A012E-A561-4C35-9480-3E83904912E9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92E8061-D981-45E1-B48D-55A6984B5A36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EC6EF3E-D5D3-4D8C-9760-F0FF862463AE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40B0203-D62A-454C-B03A-A0C62D7D787E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71B9FED-C1F0-4189-B536-62F83D06767A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C60B073-F29C-4443-B2BE-75337C008574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71A205B-F307-4240-A735-633D377B1893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671AD0D-C801-4D95-84C4-6D381853AB7E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8FFF161-6641-4B3A-B1CA-89F45D0E2908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74BDFDE-5C05-4B1A-A416-67092811715E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926F4F1-BAAE-4580-9E9B-624227DC7BDF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E031618-31E5-4F42-9AA8-9A4EF676A505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5CC42D3-A63A-484B-9944-47162AAAAD4E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AFFD-B50A-47A8-8B0D-D99C2CAEB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B43D-D28C-4BC2-8E3C-D694BE13D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3E5D-CB72-40FD-9CB5-485F01DE7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E1FF-96B0-4FD1-841C-EFE3A75B5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BC59-5E2E-47E7-86ED-EBD575FF3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9298-D5AB-4CEC-A788-B2B38D381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057D-B5AB-4E4B-A4DA-EBFAB6255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8131-FC1E-4ADE-82A2-A1C425644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7E68-1F30-4483-86CA-8C8F343AA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B362-E790-447B-883E-0FF8FC3D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D3D8-5D7B-4B75-AF65-6870914D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0D60-1620-45B7-A6A5-8A372E0E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55567-39B8-4F70-9BAA-61013788C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Semina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/07/20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ISE RE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F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ENCOURAGE GREATER PARTICIP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7 &amp;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388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b Fitzgerald, Lerner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 3.0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ston induction 0.4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haust perio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 88.0 dB(A) (-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8.9 for 50 la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rner engine with moulded bubble to duct the exhaust (hopefully more details to co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5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--no loss of spe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9 &amp;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llo Conde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alp Eng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 4.5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3 metr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8.1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50 metr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4.4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9.3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8.3 / 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llo Conde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alp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 3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3 metr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9.1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50 metr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3.5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9.1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9.4 / 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br>
              <a:rPr sz="28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periment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79280" y="1125360"/>
          <a:ext cx="8569440" cy="4619880"/>
        </p:xfrm>
        <a:graphic>
          <a:graphicData uri="http://schemas.openxmlformats.org/drawingml/2006/table">
            <a:tbl>
              <a:tblPr/>
              <a:tblGrid>
                <a:gridCol w="576360"/>
                <a:gridCol w="1512720"/>
                <a:gridCol w="935280"/>
                <a:gridCol w="936720"/>
                <a:gridCol w="1008000"/>
                <a:gridCol w="1368360"/>
                <a:gridCol w="1150920"/>
                <a:gridCol w="1081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3me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pilo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haust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pilo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haust o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pilo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haust front/re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pilo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tted silen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50 meter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 centr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CIAM ru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ed exhaust               peri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5mm venturi + mini pi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5mm venturi +side resonant pi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rnal moulded exhaust bub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 Fu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2 committee was tasked with reporting back to Plenary by 2016 on the viability of having a standard fuel in f2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al from Hol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HOW TO ENCOURAGE GREATER PARTICIP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re entries to World cup events decli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re there so few juniors in F2C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013 world c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6 juniors in F2D --Only 6 in F2C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Is the event losing its appe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make F2C more appeal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removing some of the expense and complication of F2C such as retracting undercarriage,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 fuels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?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a minimum weight simplify construction so widening the appeal of the cla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we need a different class to bridge the gap between F2C and F2F?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AM rule –Section 4C, part 1,1.2 b) states: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ise limits shall be applied to powered model aircraft, with 96dB(A) at 3 metre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r any category which does not have approval for any other noise ru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any years we have used the latter part of this rule with our deflector shields and restricted exhaust outlet a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8567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The Alternative Plan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rom 01/01/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0066"/>
                </a:solidFill>
                <a:uFillTx/>
                <a:latin typeface="Arial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) The motor shall be naturally aspirated via a single round venturi with a maximum diameter of 3 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venturi diameter shall be checked with a simple no-go plug gauge 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a. 3,02 mm * 1,0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) Any interconnecting chamber between the air intake and the induction port of the motor shall have a maximum volume of 1,25 cm3. No leakage is allowed between the venturi and the crankc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) There shall be no supplementary air induction except for sub piston induction to a maximum height of 0.6 mm at the exhaust p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THE CLEAR INTENT OF THIS IS TO ALLOW THE CONTINUED USE OF EXISTING MODELS AND ENG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856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rimental period – 2015 and 2016 contest season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tests at selected worldwide events,  in races or preferably  demonstration fligh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rd the noise levels and how achiev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asurements  taken at the center of the circle (pilot shoulder) and at 50 meters from the center of the circle,(these  then used to calculate the noise level at 3 meter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It is not mandatory to use a 3mm venturi in demonstration flights (i.e. outside of competition fligh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It is the responsibility of competitors to initiate the various experi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 essential part  that the various results are widely communicated -to enable the work to progress rapidly (via F2 working gro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Ste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2 Committee shall  present a proposal to 2016/ 2017 Plenary of the appropriate noise limit for F2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to be considered are site locations, the restricted operating area, height and duration of flights.  Plus any other factors which mitigate the spread of no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greed F2C noise limit will be circulated widely to assist the experimental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856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Step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2 Committee shall consider if it believes that further progress to the agreed F2C limit can be achieved by any of the experimentation route(s) so far demonstr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If the answer is Y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the F2 Committee will present appropriate rules to the 2018 Plenary for implementation from 1st January 201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If the answer is NO,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F2 Committee will present silencer based rules to the 2018 Plenary for implementation from 1st January 201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2 Committee shall ensure that any such silencer solution rules are only drafted after open consultation with competitors and engine manufacturers on the preferred detail of that silencer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1 &amp;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8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olodymyr Fulitka ZALP eng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uced exhaust period to135 degr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ise down by 4 dB to 93 dB at pilot in cir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+0.2 se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UGOV &amp; SOSNOVSKI  Kiev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4dB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ight speed18.3 – 18.9 (+1.3 – 1.8) for 42-44 l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3 &amp;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b Metkemeijer PROFI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gine open exha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ise at pilot in circle 92.2 dB (A) (-2.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ight spe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8.7 (+1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387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fi engine with side resonant mini pi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85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iston induction 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haust perio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80 dB(A) (-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ight speed 18.4 (+1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5 &amp;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ugov Engine engine with side resonant mini pi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85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ston induc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haust perio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2.1 dB(A) (-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8.1 (+1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b Fitzgerald, Lerner Eng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n exhau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5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ston induc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4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haust perio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3.0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6.9 for 33 la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30T13:40:36Z</dcterms:created>
  <dc:creator>Derek Heaton</dc:creator>
  <dc:description/>
  <dc:language>en-US</dc:language>
  <cp:lastModifiedBy>Derek Heaton</cp:lastModifiedBy>
  <dcterms:modified xsi:type="dcterms:W3CDTF">2014-09-30T16:15:13Z</dcterms:modified>
  <cp:revision>26</cp:revision>
  <dc:subject/>
  <dc:title>F2C Seminar 13/07/2014</dc:title>
</cp:coreProperties>
</file>