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CF14-573A-4661-B7BC-BD20C0C28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01C8-1589-407D-B471-11AEC2141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06C2-168E-4982-85F4-471D7F19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474F-4667-4BAF-9051-13966DCDC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EEF7-2E1F-4ECC-A62D-4B0CA33DB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EDC9F-E64D-4A87-BFB3-60FF7A8E0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E351-CC69-4CAC-9730-57A230B3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4219-CF31-4AF8-BBB4-7FFE106E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69FF1-4602-4EC4-A4B9-02CDDBA4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5E2BC-9D18-40AF-84CB-746ED711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523B3-3901-449D-ABAB-4D52EFC6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9BE0-4D33-45D4-A3EB-73099EC0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1C2B-F979-4BB0-8849-6AFBD813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50E7-2155-41C6-938B-3158C8A3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D6F26-6EF9-413F-B177-281946EB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782A6-EADF-417E-A321-F18F79A7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1E23-8FF9-4AC4-9094-FA2B0D850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1622-13E9-4E36-ACEF-3998BDC93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89D9-5159-4F29-81CA-3EFE6EA4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5C71-8D76-4270-8F30-6532B8F9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D884-DD96-4D51-A560-73C74539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B710-DE5A-4182-813F-1DC8DDF9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8C32-985D-4318-B947-2800E4D5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89D8-D479-481C-9070-90670355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BF0B-2954-48E6-9848-9D9BB30A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8508-505A-4D61-A954-93B41E7C58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8026-537A-4EBA-B001-D24117C71D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4.jpe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55640" y="549360"/>
            <a:ext cx="33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2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7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230,563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059,937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3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8,690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9,999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3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71640" y="1196640"/>
            <a:ext cx="7423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Unexplained jumper incapacity, main deployed, no inpu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edical Condition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malfunction, no action, spiralled to ground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utaway handle pulled, main released, no reserve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, after AAD fire at fast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 after cutaway,  3-ring trapped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AFF Jump, student limp in harness at 300m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utaway by student at 50m, too low for reserv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spirals to ground, jumper may have been incapacitated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lag jump, flag escaped and obscured handles, no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Reserve opened incorrectly due to unstable posit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Landed in tree, killed during rescu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anopy malfunction on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Total 4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1"/>
          <a:stretch/>
        </p:blipFill>
        <p:spPr>
          <a:xfrm>
            <a:off x="6948360" y="18900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8353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0 – 1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 6 – 11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Main Canopy  Activation 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Cutaway &amp; Reserve Activ.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22 of the 53 fatalities (42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53 fatalities (19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%) appear to have been caused by human error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5 (9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3 ( 5.7%) of the 53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here was a very wide range of causes of fatalities in 2012, but the underlying factor appears to have been non-adherence to standard and fundamental pract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19 – 36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4,276,101 Solo jumps – 954,462 Tand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.2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Solo Jumps - 22.3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he ratio of Tandem to all jumps and to solo jumps is steadily increasing since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3 (5.7%)       Solo Fatalities 50 (94.3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000"/>
            <a:ext cx="7543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Power Point presentation and the full 2012 Safety Report, have been sent by e-mail to all respondents and to all other countries for which there are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5) issued in 2013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2 are requested to make a special effort to do so for 2013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14-01-22T19:15:56Z</dcterms:modified>
  <cp:revision>66</cp:revision>
  <dc:subject/>
  <dc:title>SAFETY &amp; TRAINING FORUM 25 January 2003</dc:title>
</cp:coreProperties>
</file>