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60EC-0010-499B-B61F-EA9B5D862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EFC0-9EC9-48FB-82DE-5AC856059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9339-9418-47C3-BAED-597DF1EC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0EC7-A70C-43F8-92E2-D6CE02A14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122A-1E87-4276-B52B-8B9C108C1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4CB9-4B8C-42B9-9674-D1946F67C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536D-C089-4E44-9779-AE3DDED2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52B5-D14B-4A30-BB25-9D68359A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3B3A-3D38-4129-AE9A-86BC348F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0582-AD34-4C64-A0D2-27C53B6E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2339-652A-4774-8D3B-AC56BCDA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9C63-6191-492F-86C0-1118E7CD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3984-1D24-46FA-A265-6A97BDA8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B86F-AC10-4D39-91DE-B2B12584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9C11-DFAC-493E-BC33-A26842BD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4DB8-562C-4892-B865-210029BD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60F5-98A8-459A-A805-9239D0279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53A5-4E21-45CE-9087-8156A11BC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27E5-2CBF-4406-84BC-D9ACF4B3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0A4F-020A-4BEE-AC88-814F1A31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36A0-5A25-4790-A9E1-46133D4E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D573-D100-4319-B58B-E4B25A67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7000-F6F0-4F2E-86FE-437086F4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AF23-EB4A-4BE5-B119-4A76B86A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F5A1-4FB0-4B5C-B01B-8E89C832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EEF1-BB58-491C-BA4A-77E8F9E758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DBEE-2870-49FC-8C3F-371140A0D2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4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55640" y="54936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2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7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230,563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059,937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3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8,690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9,999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3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640" y="1196640"/>
            <a:ext cx="7423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Unexplained jumper incapacity, main deployed, no inpu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edical Condition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malfunction, no action, spiralled to ground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utaway handle pulled, main released, no reserve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, after AAD fire at fast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 after cutaway,  3-ring trapped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AFF Jump, student limp in harness at 300m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utaway by student at 50m, too low for reserv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spirals to ground, jumper may have been incapacitated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lag jump, flag escaped and obscured handles, no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Reserve opened incorrectly due to unstable posit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Landed in tree, killed during rescu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anopy malfunction on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Total 4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1"/>
          <a:stretch/>
        </p:blipFill>
        <p:spPr>
          <a:xfrm>
            <a:off x="6948360" y="18900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353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0 – 1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 6 – 11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Main Canopy  Activation 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Cutaway &amp; Reserve Activ.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22 of the 53 fatalities (42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53 fatalities (19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%) appear to have been caused by human error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5 (9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3 ( 5.7%) of the 53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here was a very wide range of causes of fatalities in 2012, but the underlying factor appears to have been non-adherence to standard and fundamental pract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19 – 36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4,276,101 Solo jumps – 954,462 Tand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.2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Solo Jumps - 22.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he ratio of Tandem to all jumps and to solo jumps is steadily increasing since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3 (5.7%)       Solo Fatalities 50 (94.3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000"/>
            <a:ext cx="754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Power Point presentation and the full 2012 Safety Report, have been sent by e-mail to all respondents and to all other countries for which there are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5) issued in 2013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2 are requested to make a special effort to do so for 2013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14-01-22T19:15:56Z</dcterms:modified>
  <cp:revision>66</cp:revision>
  <dc:subject/>
  <dc:title>SAFETY &amp; TRAINING FORUM 25 January 2003</dc:title>
</cp:coreProperties>
</file>