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7884A-26D4-4106-B2FA-B7DBEB295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9450B-B6EC-47C0-A5B9-FBA655408FE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6A71-97DA-45FB-8F43-AF940A647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117D-458A-4977-8339-57DE9CF2B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53EC-CF78-4DF3-9965-D0112AE33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EFDD-4EE5-469B-A074-5625BDD23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4F80D-107C-465B-94B0-A7A01AA30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1486D-7919-42AB-84BC-10CC20E0D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7C1FD-0A19-42AB-9985-2DAA0920A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E2EC6-46A0-4B96-AF6A-D77D22701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86699-1C39-48D4-B2E0-74D404055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2F558-AEAD-47BC-8FB0-57CA32885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389FD-8FA5-4F5A-AAC4-D629D394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64C5-30C4-4B98-831A-929481901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EB902-5C10-4A75-97C4-8E079273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0D64B-744D-46EF-8995-C465C6EC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2B81C-9784-4CC0-AE0E-6CA38C77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DD29E-7F24-49F5-8426-629D73C48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691D7-FABC-492F-A322-A28190C21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F323-6F80-44C6-9BC8-E91B84C46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CA6D-CFF9-44C5-8C50-2C9CF9839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F00A-C4E5-4553-BB5C-A5728C30F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4362-1DB0-4F30-B40B-9C003637B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B1E4-8CE0-4C57-A9F7-8CB46ED8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1FEC-204B-4E28-AE0C-944215AE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865E-990E-47D9-BE85-4D1B632F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40657-6B5B-4168-B79E-A5A9C17167E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D60B5-FE9E-41E4-A793-7433AD7CD7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5" descr="logo_ipc_01_trait copie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0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0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420,087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164,200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6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97,274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7,639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66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632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0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5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47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71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7" descr="logo_ipc_01_trait copie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5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8176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  -  Intentional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ollisions/Entanglements after ope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/Reserve Entanglement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/no cutaway, Spiralled to ground      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otal 5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5" descr="logo_ipc_01_trait copie"/>
          <p:cNvPicPr/>
          <p:nvPr/>
        </p:nvPicPr>
        <p:blipFill>
          <a:blip r:embed="rId8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7774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 - 23% of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/Intent. 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3 - 20% of 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anopy Collisions/Entanglements           11 – 17% of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These  39 of the 66 fatalities - (59%) were                      canopy handling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5" descr="logo_ipc_01_trait copie"/>
          <p:cNvPicPr/>
          <p:nvPr/>
        </p:nvPicPr>
        <p:blipFill>
          <a:blip r:embed="rId4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4 of the 66 fatalities (67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66 fatalities (59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66 fatalities (16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59 of the 66 fatalities (8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4 (6%) of the  66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   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here were no were Tandem fatalities  in 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640" y="1990440"/>
            <a:ext cx="741672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ontinuing high numbers of fatalities, 39 – 59%,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Over a ten-year period there has been an irregular decrease in the percentages of fatalities among Student and Intermediate jumpers and an irregular increase in the percentage of fatalities with Expert jump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Increased use of AAD and RSL re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5" descr="logo_ipc_01_trait copie"/>
          <p:cNvPicPr/>
          <p:nvPr/>
        </p:nvPicPr>
        <p:blipFill>
          <a:blip r:embed="rId4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 15.1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2009 – 13.5%; 2008 - 12.1%; 2007 - 9.6%; 2006 – 12.2%; 2005 – 10.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5,452,158 Solo jumps –  967,929 Tand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6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10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All 2010 fatalities were Solo jump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4" descr="logo_ipc_01_trait copie"/>
          <p:cNvPicPr/>
          <p:nvPr/>
        </p:nvPicPr>
        <p:blipFill>
          <a:blip r:embed="rId3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99640" y="1483920"/>
            <a:ext cx="7543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10 AAD Report, and Power Point presentations for both Safety and AAD reports, has been sent by e-mail to all respondents and to all other countries for which the 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1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1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11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7) issued in 2011 by T &amp; S Committee of I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200" spc="-1" strike="noStrike">
                <a:solidFill>
                  <a:srgbClr val="ffffff"/>
                </a:solidFill>
                <a:latin typeface="Arial"/>
              </a:rPr>
              <a:t>Learning from the Mistakes of Other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, Skydive Arizona  Accident review 1991 –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by Bryan Burke, S&amp;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10 are requested to make a special effort to do so for 2011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8" descr="logo_ipc_01_trait copie"/>
          <p:cNvPicPr/>
          <p:nvPr/>
        </p:nvPicPr>
        <p:blipFill>
          <a:blip r:embed="rId2"/>
          <a:stretch/>
        </p:blipFill>
        <p:spPr>
          <a:xfrm>
            <a:off x="7021440" y="404640"/>
            <a:ext cx="1328760" cy="93672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10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8-11-04T20:16:36Z</dcterms:modified>
  <cp:revision>80</cp:revision>
  <dc:subject/>
  <dc:title>SAFETY &amp; TRAINING FORUM 25 January 2003</dc:title>
</cp:coreProperties>
</file>