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7613-A31A-4730-BE08-F3E7CBCEF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2AD7-6DAB-40B5-BDCB-19F095C48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853B-0AA2-4062-8C1F-E8DAC9481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D867-27ED-4388-8857-3085B17E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C7C7-4E6F-41B5-A059-FFF94F3CF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FF1F-11DF-4746-9902-2069B0F0E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A63D-39F0-46D9-8550-9AC0E2916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A029-5B1C-490C-923F-2B27D186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A6346-DD9B-429B-AA97-636FA809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712B-D710-4A76-9038-35D85D86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3E374-23F8-4A59-A463-6DE16626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2B90-F491-4281-A9CC-B9521418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56EAC-7BF9-4616-AB4E-B38A6C24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31F1-3B62-40FE-895C-F167DFD3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82DE-84CC-4513-8B1C-DB99AF4A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66F4-903B-4D56-9C2C-7F37E893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B9B1-3207-408E-A16B-9A89A4BD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1BFD-D20E-496D-8D47-8193B1F00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5761-45D9-4A41-A4EA-2DDDF1BC4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7793-D1B1-4B47-BE62-F3F05349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00CA-8FD7-4042-8DC9-D1E85610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5DB9-53FD-494F-AF32-0749C772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1255-BD80-497B-B181-922646F8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C4E5-F7E5-4E93-AA54-10C42EF0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2452-282E-4979-B744-1F2E623C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311F-B044-41A2-B96E-A19E0497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7D8D-C408-4B56-81D3-A20E356ECC98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BA22-794A-42F6-A431-26EF5EB16C5E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Calibri"/>
              </a:rPr>
              <a:t>Thanks – and Report Distribu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8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9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8 are requested to do so for 2019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2 countries responded, from a possible approximately 85, a response rate of 49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similar to previous years and has been about this rate for the 32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8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2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364,651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27,205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8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44,651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709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44 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Studen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(9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3 Intermediate     (3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(6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7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Equipment Entanglemen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Spinning main, cutaway &amp; reserve malfunction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AAD Fire &amp; Reserve Malfunct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Jumper spun on back, Reserve handle pulled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Reserve did not deplo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Medical Issue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- 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Entanglemen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27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4 (55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15(3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0 (68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8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6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27% of 44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56,227Solo jumps – 1,527,2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43 (44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2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0-01-20T16:21:36Z</dcterms:modified>
  <cp:revision>139</cp:revision>
  <dc:subject/>
  <dc:title>SAFETY &amp; TRAINING FORUM 25 January 2003</dc:title>
</cp:coreProperties>
</file>