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0.jpeg" ContentType="image/jpeg"/>
  <Override PartName="/ppt/media/image5.png" ContentType="image/png"/>
  <Override PartName="/ppt/media/image16.jpeg" ContentType="image/jpeg"/>
  <Override PartName="/ppt/media/image15.jpeg" ContentType="image/jpe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2F2A0-6132-4F05-AC17-5D8A428C2E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2E9DD-9568-4CFA-B5EA-C8A16DEC5C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FE815-0E72-4390-BF1F-FF85CB7D0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65CF2-C9DB-4D5F-AE72-E69D05002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1735C-0451-427B-A584-7A5325301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C97AD-E2B0-44EE-AD42-3B9916E4B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3B6D0-5024-4A3A-8B59-F69A85350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B460D-C66E-4AF3-B18C-125323FFE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44C38-5DBB-4DE9-A3A2-2FEF8B0CC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BC485-958E-407F-9517-13383A1E6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9D33A-3EFE-4A2E-8CF9-8741E64F0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0C18D-9F14-48DE-91F1-B73A62787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89CC0-52A5-445A-ACD6-E7CC06242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CC939-97CB-4CEF-AF32-73F17971D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0646A-DA1B-4135-985D-5C9DAB71D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05C42-BC3F-4CA2-AD2F-0F5B78CB9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BB51E-2A71-4030-BA44-FA03D89D1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C309C-86DD-467A-BBC6-A6843BCBE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896A2-9832-4775-BC1F-1B4DE5576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3498C4-1C19-4304-B0F6-3C8FC8398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BAB920-0F89-4AEE-9E29-049B7CA38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38B343-9CD2-4036-AD45-0CA00BB04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B9F1A0-D8D5-469C-B44B-53342568D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E0CE22-6DD1-475D-AB70-3BCB802E1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63FF9-5631-4063-BE91-A5A8656A4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D05062-F821-430E-9265-F37F30AE6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84173A-24DC-4B51-8085-3D9E0D95B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A666C1-62B4-4190-AF1A-D72002FC7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BC4CF3-7480-46FE-8DFF-B31DDDDA2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4B7EB4-27EF-48E6-B751-37248439F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A4B406-E7E2-4EC5-90B5-CB8FCAC29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DAABB9-5FD4-439D-A23C-BDFAE5165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0B2C33-8B80-48BD-B768-E1A3BB37C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499521-9D95-4B70-9975-15E50585B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51C2A7-C5D0-4945-B629-5CAACD0EF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27205-4D10-4F27-B760-8E30BCA14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AED711-8DEB-4CA2-AB11-0F173EECA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152C9E-F86F-4A1C-9EC1-E9270BE16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3042EE-5EF0-43E2-A5E7-736A4ADD4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DCCF71-1C4E-4999-A8FA-2B0A8AE93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4642F6-6C9B-4A25-A4D8-49D73C031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6EAC11-65D0-4772-91FE-02273661E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7A9FB7-AE24-4ADE-A64F-A3C7C64A5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814F1F-4D9E-4823-B4BD-B31B06386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90CAC7-48AE-4930-A72B-581641610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9EC63-3522-4685-827A-0D42BC175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47C70-1BFE-457E-A692-92F039FF6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3252B-B97D-4AC5-84F3-17DB22BEB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0D10E-CC27-4231-A2A0-4B1F4CFAA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2A565-7C5F-4C7C-BDD4-B777A7547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42D67-D739-4B8F-88CB-74E8608ED9D9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53970-A80D-489A-88DC-8099280B3C27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DE935-199E-4154-84C5-BBEAB980D722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0823C-8346-4B1D-9C8F-B5E3D88E5A99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Rectangle 2" descr=""/>
          <p:cNvPicPr/>
          <p:nvPr/>
        </p:nvPicPr>
        <p:blipFill>
          <a:blip r:embed="rId1"/>
          <a:stretch/>
        </p:blipFill>
        <p:spPr>
          <a:xfrm>
            <a:off x="822240" y="1841400"/>
            <a:ext cx="8407440" cy="195588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2484000" y="3499920"/>
            <a:ext cx="6480360" cy="15843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600" spc="-1" strike="noStrike">
                <a:solidFill>
                  <a:srgbClr val="ffffff"/>
                </a:solidFill>
                <a:latin typeface="Arial Unicode MS"/>
              </a:rPr>
              <a:t>International Parachuting Commission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600" spc="-1" strike="noStrike">
                <a:solidFill>
                  <a:srgbClr val="ffffff"/>
                </a:solidFill>
                <a:latin typeface="Arial Unicode MS"/>
              </a:rPr>
              <a:t>FAI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4" name="Text Box 4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logo_ipc_01_trait copie"/>
          <p:cNvPicPr/>
          <p:nvPr/>
        </p:nvPicPr>
        <p:blipFill>
          <a:blip r:embed="rId2"/>
          <a:stretch/>
        </p:blipFill>
        <p:spPr>
          <a:xfrm>
            <a:off x="6588000" y="476280"/>
            <a:ext cx="1729080" cy="107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8" descr="logo_ipc_01_trait copie"/>
          <p:cNvPicPr/>
          <p:nvPr/>
        </p:nvPicPr>
        <p:blipFill>
          <a:blip r:embed="rId1"/>
          <a:stretch/>
        </p:blipFill>
        <p:spPr>
          <a:xfrm>
            <a:off x="7451640" y="549360"/>
            <a:ext cx="1230480" cy="86364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 txBox="1"/>
          <p:nvPr/>
        </p:nvSpPr>
        <p:spPr>
          <a:xfrm>
            <a:off x="899640" y="1557360"/>
            <a:ext cx="75438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is Report, along with the Power Point presentation, and material listed below, has been sent by e-mail to all respondents and to all other countries for which the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&amp;S Committee has e-mail addresses, and by e-mail to all IPC Delegates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2016 Safety Survey Report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2016 Safety Survey Report Power Point Presentation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Safety Survey 2017 Form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Safety Survey 2017 Notes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Information Notice (1) issued in 2017 by the IPC’s Technical &amp; Safety Committee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Parachuting Aircraft Incidents/Accidents Report 2017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PPEAL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ose countries who did not report for 2016 are requested to make a special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effort to do so for 2017.  The compilation of data is to the benefit of the country gathering same,  and to the worldwide skydiving community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Text Box 10"/>
          <p:cNvSpPr/>
          <p:nvPr/>
        </p:nvSpPr>
        <p:spPr>
          <a:xfrm>
            <a:off x="1476360" y="76500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0000"/>
                </a:solidFill>
                <a:latin typeface="Tahoma"/>
              </a:rPr>
              <a:t>Distribution of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Title 1" descr=""/>
          <p:cNvPicPr/>
          <p:nvPr/>
        </p:nvPicPr>
        <p:blipFill>
          <a:blip r:embed="rId1"/>
          <a:stretch/>
        </p:blipFill>
        <p:spPr>
          <a:xfrm>
            <a:off x="450720" y="463680"/>
            <a:ext cx="8686800" cy="115704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468000" y="2133720"/>
            <a:ext cx="8280360" cy="345600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40 countries responded, from a possible approximately 85, a response rate of 47%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The response rate was similar to previous years and has been about this rate for the 29 years of the Safety Survey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Once again countries are encouraged to put in place systems for the collection of the type of data in this report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Such data is invaluable  - for use by parachuting organisations, dropzones, those involved in the areas of technical and safety matters, and when dealing with authorities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71640" y="479520"/>
            <a:ext cx="5905440" cy="699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300" spc="-1" strike="noStrike">
                <a:solidFill>
                  <a:srgbClr val="04617b"/>
                </a:solidFill>
                <a:latin typeface="Arial Unicode MS"/>
              </a:rPr>
              <a:t>2016 Safety Report</a:t>
            </a:r>
            <a:endParaRPr b="0" lang="en-US" sz="43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86920" y="1699920"/>
            <a:ext cx="692964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IE" sz="3200" spc="-1" strike="noStrike">
                <a:solidFill>
                  <a:srgbClr val="000000"/>
                </a:solidFill>
                <a:latin typeface="Arial"/>
                <a:ea typeface="Arial"/>
              </a:rPr>
              <a:t>40 countries supplied data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7,523,610 skydives were made by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1,375,159 jumper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39 people were killed skydiving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(these figures include Tandems; there were two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andem fatalitiy in 2016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1 Fatality per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192,913 Jumps   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35,260 Jumpe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0" name="Picture 4" descr="logo_ipc_01_trait copie"/>
          <p:cNvPicPr/>
          <p:nvPr/>
        </p:nvPicPr>
        <p:blipFill>
          <a:blip r:embed="rId1"/>
          <a:stretch/>
        </p:blipFill>
        <p:spPr>
          <a:xfrm>
            <a:off x="7164360" y="404640"/>
            <a:ext cx="1513080" cy="114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4608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04617b"/>
                </a:solidFill>
                <a:latin typeface="Arial Unicode MS"/>
              </a:rPr>
              <a:t>39 Fatalities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79912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5 Students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(13%)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0-25 Freefal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7 Intermediate   (18%)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26-250 Freefal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27 Experts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(69%)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251 + Freefal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60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Cutaway &amp; Low/No Reserve pull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2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No pull/low pull on main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1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Others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36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 39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3" name="Picture 7" descr="logo_ipc_01_trait copie"/>
          <p:cNvPicPr/>
          <p:nvPr/>
        </p:nvPicPr>
        <p:blipFill>
          <a:blip r:embed="rId1"/>
          <a:stretch/>
        </p:blipFill>
        <p:spPr>
          <a:xfrm>
            <a:off x="6732720" y="620640"/>
            <a:ext cx="1692000" cy="104004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6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64800" y="430200"/>
            <a:ext cx="544356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4617b"/>
                </a:solidFill>
                <a:latin typeface="Arial Unicode MS"/>
              </a:rPr>
              <a:t>‘</a:t>
            </a:r>
            <a:r>
              <a:rPr b="1" lang="en-IE" sz="3600" spc="-1" strike="noStrike">
                <a:solidFill>
                  <a:srgbClr val="04617b"/>
                </a:solidFill>
                <a:latin typeface="Arial Unicode MS"/>
              </a:rPr>
              <a:t>Other’ Fatalities (36)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99640" y="1628280"/>
            <a:ext cx="74170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Landing Error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Intentional Fast Landing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Freefall Collision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Equipment Related Issue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Incorrect Emergency Procedure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Tandem Fatalitie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Medical Issue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Camera Entanglement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Landing in Heavy Turbulence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Drowning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Aircraft Strike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Canopy Collision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Student is severe spin on back, unconscious -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AAD fired, reserve had twists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Death due to 42g spin or ground impact under reserve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700" spc="-1" strike="noStrike" u="sng">
                <a:solidFill>
                  <a:srgbClr val="000000"/>
                </a:solidFill>
                <a:uFillTx/>
                <a:latin typeface="Arial Unicode MS"/>
              </a:rPr>
              <a:t>Total  36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7" name="Picture 5" descr="logo_ipc_01_trait copie"/>
          <p:cNvPicPr/>
          <p:nvPr/>
        </p:nvPicPr>
        <p:blipFill>
          <a:blip r:embed="rId1"/>
          <a:stretch/>
        </p:blipFill>
        <p:spPr>
          <a:xfrm>
            <a:off x="7093080" y="549360"/>
            <a:ext cx="1511280" cy="92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15640" y="980640"/>
            <a:ext cx="5832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700" spc="-1" strike="noStrike">
                <a:solidFill>
                  <a:srgbClr val="04617b"/>
                </a:solidFill>
                <a:latin typeface="Arial Unicode MS"/>
              </a:rPr>
              <a:t>Fatalities – Largest Groups</a:t>
            </a:r>
            <a:endParaRPr b="0" lang="en-US" sz="37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4360" y="2133720"/>
            <a:ext cx="7991280" cy="38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Intentional Fast Landings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8 - 21% of 39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2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Other Landing Error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7 – 18% of 39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3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Freefall Collision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5 – 13% of 39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anopy handling issues, combined –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5 (38% of total fatalities, 39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0" name="Picture 5" descr="logo_ipc_01_trait copie"/>
          <p:cNvPicPr/>
          <p:nvPr/>
        </p:nvPicPr>
        <p:blipFill>
          <a:blip r:embed="rId1"/>
          <a:stretch/>
        </p:blipFill>
        <p:spPr>
          <a:xfrm>
            <a:off x="7093080" y="549360"/>
            <a:ext cx="1511280" cy="107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10920" y="417600"/>
            <a:ext cx="6181560" cy="9525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5000" spc="-1" strike="noStrike">
                <a:solidFill>
                  <a:srgbClr val="04617b"/>
                </a:solidFill>
                <a:latin typeface="Arial Unicode MS"/>
              </a:rPr>
              <a:t>Significant Figur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68000" y="1916280"/>
            <a:ext cx="800244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00280" indent="-343080" algn="ctr">
              <a:lnSpc>
                <a:spcPct val="80000"/>
              </a:lnSpc>
              <a:spcBef>
                <a:spcPts val="601"/>
              </a:spcBef>
              <a:buClr>
                <a:srgbClr val="e2d700"/>
              </a:buClr>
              <a:buSzPct val="85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OF THE 39 FATALITI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18 (46%) appear to have occurred with the parachutist having at least one good parachute on his/her back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18 (46%) occurred after the successful deployment of the main parachute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2 (5%) might have been avoided by an AAD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29 (74%) appear to have been caused by human error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900" spc="-1" strike="noStrike">
                <a:solidFill>
                  <a:srgbClr val="000000"/>
                </a:solidFill>
                <a:latin typeface="Arial Unicode MS"/>
              </a:rPr>
              <a:t>                </a:t>
            </a:r>
            <a:r>
              <a:rPr b="1" i="1" lang="en-IE" sz="1900" spc="-1" strike="noStrike" u="sng">
                <a:solidFill>
                  <a:srgbClr val="000000"/>
                </a:solidFill>
                <a:uFillTx/>
                <a:latin typeface="Arial Unicode MS"/>
              </a:rPr>
              <a:t>One of the 2016 fatalities was a First Jump Student</a:t>
            </a:r>
            <a:r>
              <a:rPr b="1" i="1" lang="en-IE" sz="19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i="1" lang="en-IE" sz="19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3" name="Picture 4" descr="logo_ipc_01_trait copie"/>
          <p:cNvPicPr/>
          <p:nvPr/>
        </p:nvPicPr>
        <p:blipFill>
          <a:blip r:embed="rId1"/>
          <a:stretch/>
        </p:blipFill>
        <p:spPr>
          <a:xfrm>
            <a:off x="7093080" y="476280"/>
            <a:ext cx="1439640" cy="100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4617b"/>
                </a:solidFill>
                <a:latin typeface="Arial Unicode MS"/>
              </a:rPr>
              <a:t>Some Trends &amp; Issues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71640" y="1990800"/>
            <a:ext cx="7416720" cy="37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ontinuing high percentage of fatalities, 15 (38% of 39) resulting from canopy handling, canopy control, and landing issu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Roughly similar percentage distribution of fatalities between Student/Intermediate/Expert as in previous years .  The category ‘Expert Skydiver’ continues to have the most fatalities, but it has the biggest numbers of jump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AAD and RSL are both now widely used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6" name="Picture 5" descr="logo_ipc_01_trait copie"/>
          <p:cNvPicPr/>
          <p:nvPr/>
        </p:nvPicPr>
        <p:blipFill>
          <a:blip r:embed="rId1"/>
          <a:stretch/>
        </p:blipFill>
        <p:spPr>
          <a:xfrm>
            <a:off x="6877080" y="620640"/>
            <a:ext cx="1440000" cy="10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04617b"/>
                </a:solidFill>
                <a:latin typeface="Arial Unicode MS"/>
              </a:rPr>
              <a:t>Tandem - Solo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539640" y="2276280"/>
            <a:ext cx="8229600" cy="2376360"/>
          </a:xfrm>
          <a:prstGeom prst="rect">
            <a:avLst/>
          </a:prstGeom>
          <a:noFill/>
          <a:ln w="9360">
            <a:solidFill>
              <a:srgbClr val="0f6fc6"/>
            </a:solidFill>
            <a:miter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s 16.1% of </a:t>
            </a:r>
            <a:r>
              <a:rPr b="1" lang="en-IE" sz="2400" spc="-1" strike="noStrike" u="sng">
                <a:solidFill>
                  <a:srgbClr val="000000"/>
                </a:solidFill>
                <a:uFillTx/>
                <a:latin typeface="Arial Unicode MS"/>
              </a:rPr>
              <a:t>all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jumps, Tandem + Sol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6,313,878 Solo jumps – 1,209,732 Tandem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 Fatalities 2; Solo Fatalities 37 (39 total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9" name="Picture 4" descr="logo_ipc_01_trait copie"/>
          <p:cNvPicPr/>
          <p:nvPr/>
        </p:nvPicPr>
        <p:blipFill>
          <a:blip r:embed="rId1"/>
          <a:stretch/>
        </p:blipFill>
        <p:spPr>
          <a:xfrm>
            <a:off x="6877080" y="549360"/>
            <a:ext cx="1440000" cy="9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</cp:lastModifiedBy>
  <dcterms:modified xsi:type="dcterms:W3CDTF">2018-01-21T17:01:29Z</dcterms:modified>
  <cp:revision>118</cp:revision>
  <dc:subject/>
  <dc:title>SAFETY &amp; TRAINING FORUM 25 January 2003</dc:title>
</cp:coreProperties>
</file>