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2157-4933-478F-9C99-AB80BD34E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C563-3BF7-4387-A991-C986FFF25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5044-648D-4922-B46B-5190C303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6DBE-E178-4A2E-B83F-6F157E8C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BB8A-73DF-4A6F-8F6F-8A31B07EC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C913-790C-4DDC-8143-3F8B7EE9A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0731-E63B-44B7-8F0E-B8D9E9D0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FA69-38F3-4EFC-B108-7F9154CA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B211-CAE3-4703-9229-8A3CE560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87A7-281C-4E83-8506-478725FA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DC18-8694-43EA-9332-1A62361C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2B7F-3A46-4979-8BD7-E7205F63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AA42-B5DC-4F10-8032-EDC89CC9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2EB6-9E63-4A15-97C1-80A36F69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7B55-95E9-4867-A641-433D79AC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ACBE-9A8E-4FDF-91D6-D81CF08B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605B-70DF-4773-807D-D39D8AA8D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93CC-BFC0-4D7E-9A48-DDDBF2184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4132-6713-4E3E-8C24-13BA10F2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109A-1205-4F51-A703-1268A98A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BDB0-37E4-4ABF-BDA7-5FBE0B5D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5F59-FA15-438C-9120-8F71D898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D16B-0952-46A7-AF75-7CD7CC82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F0B4-ED8D-49DC-9D50-13B283CF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0B7A-091D-4F16-A0B9-207FC012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555A-D6EF-43D9-898A-3C6B45CE11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1899-488F-4F61-BD62-0C61625155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5905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6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958,194 skydives were made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832,683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1 people were killed skyd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16,827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6,327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51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2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8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Other’ Fatalities (37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and bag-lock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lfunction of deploy. device, no reserve act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Rotation under canopy until impac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on opening (CF jump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 &amp; impact with build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772164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% (16) Fast Canop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8% (  9) No or Low Main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Ac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0% each ( 5 each) Other Landing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Errors and Equipment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7 of the 51 fatalities (73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1 of the 51 fatalities (41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0 of the 51 fatalities (20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 of the 51 fatalities (80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5 of the 51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51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27% of fatalities in 2006 – AAD may have reduced this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12.2% against all Solo jumps  in 2006 – 10.4% in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311,515 Solo jumps – 646,67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 2 (4%)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Solo Fatalities 49 (96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6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Protective Headwear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Bulletins (2) issued in 2007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7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06 are earnestly requested to make a special effort to do so for 2007.  The compilation of data is to the benefit of the country gathering same, not just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8-01-16T08:38:04Z</dcterms:modified>
  <cp:revision>48</cp:revision>
  <dc:subject/>
  <dc:title>SAFETY &amp; TRAINING FORUM 25 January 2003</dc:title>
</cp:coreProperties>
</file>