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244C5-7413-4BC5-8E02-19BA1EAD6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A0CA1-1DFD-42B5-9E69-1310702BF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9A5A5-7D36-4B9D-B7D9-58781B010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1F4F7-F5C7-4839-A6E7-F784BBD62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3FCAE-48DC-410A-B30E-47B738D88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39FBB-5B7B-4C9D-8466-934739679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6C794-EE38-4612-8CEF-8E3761F5F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C3235-A140-4D49-AB78-2815F31A8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2766E-722E-4C52-844D-6E526A46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8941D-BCF0-43BC-AD46-AE0CEB809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004E8-E600-4020-ADF8-55CC14DEF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B0D58-49AC-455F-9824-0771365C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4F141-A025-4C52-8956-C692960A6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8DC21-AA14-4A5C-AF99-8B62A9EC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4AF1F-A87D-404B-ABF4-5E30B351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74ABA-0D32-45A1-BAAB-97767A163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34C1B-9377-4B7B-A33E-DDB4D5EB3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ACC0C-24F8-4743-9398-1C6C1978C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24A42-FD98-4995-98D3-98D72D404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4F761-1AD6-4107-AE04-BEFBB3FA4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21598-5A05-4269-9820-04C35FEF4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3760C-3965-4D56-A421-E076D6A7C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0D2FE-319F-40EB-BA1A-B210A7C9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D74F5-500B-4C66-9A89-15F412A4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C94B4-5521-4CB4-A8DD-CEABEF8E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DAB12-2FFF-49C1-BF38-F321114031E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478C-0F11-4DDB-A59E-A7DD61D113F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99640" y="4941720"/>
            <a:ext cx="75596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340000" y="1916280"/>
            <a:ext cx="4824360" cy="28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3200" spc="-1" strike="noStrike">
                <a:solidFill>
                  <a:srgbClr val="e5e5ff"/>
                </a:solidFill>
                <a:latin typeface="Garamond"/>
              </a:rPr>
              <a:t>                    </a:t>
            </a: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2004 Safety Repor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755964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9 countries supplied da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5,332,756 skydives were made b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493,250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53 people were killed skydiv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100,618 jumps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9,307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              </a:t>
            </a: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53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988640"/>
            <a:ext cx="8218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8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15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1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1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4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64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47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1692360" cy="10396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 ‘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Other’ Fatalities (47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8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9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uicid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during CF opening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ow cutaway &amp; Line twists on reserv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anopy collision during CF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Jumper unconscious before AAD fir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Hard landing under two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Jumper caught cutaway canopy which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ntangled with jumper’s own mai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Total 47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"/>
          <p:cNvSpPr/>
          <p:nvPr/>
        </p:nvSpPr>
        <p:spPr>
          <a:xfrm>
            <a:off x="971640" y="54936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Fatalities – Largest Group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79311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2% (17) Landing Erro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7% ( 9) Fast canop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3%  (7) Equipment proble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IE" sz="2800" spc="-1" strike="noStrike">
                <a:solidFill>
                  <a:srgbClr val="e5e5ff"/>
                </a:solidFill>
                <a:latin typeface="Garamond"/>
              </a:rPr>
              <a:t>                    </a:t>
            </a:r>
            <a:r>
              <a:rPr b="1" i="1" lang="en-IE" sz="4000" spc="-1" strike="noStrike">
                <a:solidFill>
                  <a:srgbClr val="e5e5ff"/>
                </a:solidFill>
                <a:latin typeface="Arial"/>
              </a:rPr>
              <a:t>Some Significant Figur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0024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66% of the 53 fatalities (18 were discounted for this statistic) occurred with the parachutist having at least one good parachute on his/her bac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1% - 27 of 53 fatalities, occurred after the successful deployment of the main parachut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1% - 6 of the 53 fatalities might have been avoided by AAD us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79% - 42 of the 53 fatalities, appear to have been caused by human erro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3 of the 53 Fatalities were First Jump Stud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   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Some Continuing Trend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7920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creased use of AAD shows in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Emphasis on good and thorough initial and ongoing training is probably the only way in which the big numbers of fatalities, especially from canopy handling/landing, may be reduc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1916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4 AAD Report, and Power Point presentations for both reports, has been sent by e-mail to all respondents and to all other countries for which we have e-mail addresses (72 in total)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e CDs have the following –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AAD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Visiting Jumper Requirements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Chart 2006 – with details of AADs on the market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Reserve Life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tudent Canopy Loading Guid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5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5 Not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5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16556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6-01-16T20:58:31Z</dcterms:modified>
  <cp:revision>33</cp:revision>
  <dc:subject/>
  <dc:title>SAFETY &amp; TRAINING FORUM 25 January 2003</dc:title>
</cp:coreProperties>
</file>